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57B8-DC81-408F-AD79-4FFE2DB0EF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5EC9-4D2D-4717-952B-4CD903AED1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9E2-356F-4B94-878C-D4FF27EB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4AD-8BC7-409F-95EF-8F485D6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FDB-99D4-42C9-BC45-FBF99969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CE5-6CCB-4A97-8236-E1A21DC4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00D-CF1C-4D73-A9B1-0832B711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7DE-DE54-4344-A756-4D24D23B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A7A-B016-4B8A-8C20-FBF52272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7E1-3090-4D02-BA1B-F0028D93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643-733C-48D0-9E02-9DDE6912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8EE-2F63-49A1-AB08-9F83165F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8AA-1FB8-423B-8A8E-E988B55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8C2-DE6C-4FF8-8033-0B1D67A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E8AF-5E64-41BA-B520-F67F38552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0 секунд, которые изменят вашу жизнь.mp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25804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691344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123920"/>
            <a:ext cx="8424720" cy="75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спользование метафор(обсуждение рисунков)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суждение древней или современной       прит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монстрация мультфильмов, снятых по мотивам притч и их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удрые изречения философов, цитаты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ьское собрание включает в себ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основных компон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Анализ учебных достижений учащихся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Знакомство родителей с состоянием эмоционального климата в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сихолого - педагогическое просвещ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Обсуждение организационных во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флек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Личные беседы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гровые мо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user\Desktop\eZre0fd_B9A.jpg"/>
          <p:cNvPicPr/>
          <p:nvPr/>
        </p:nvPicPr>
        <p:blipFill>
          <a:blip r:embed="rId1"/>
          <a:stretch/>
        </p:blipFill>
        <p:spPr>
          <a:xfrm>
            <a:off x="3780000" y="1892160"/>
            <a:ext cx="2587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892160"/>
            <a:ext cx="8136000" cy="40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произнести ци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упражнение «портфель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вручение памя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в единстве процесса обучения и воспитания и при активном участии в нем сообществ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, родитель и учитель, можно считать ученика моделью высоко качественного воспитания и образова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92"/>
          <p:cNvPicPr/>
          <p:nvPr/>
        </p:nvPicPr>
        <p:blipFill>
          <a:blip r:embed="rId1"/>
          <a:stretch/>
        </p:blipFill>
        <p:spPr>
          <a:xfrm>
            <a:off x="0" y="4394160"/>
            <a:ext cx="168264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55280" y="4292280"/>
            <a:ext cx="74883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но семейное воспитание во многом определяет, каким станет человек. Ни государство, ни даже лучшие педагоги ребенку заменить семью не могут». В. В. Пути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11120" y="3860640"/>
            <a:ext cx="4176720" cy="256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рупп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осещение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иглашение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индивидуальные консультации           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й лек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матические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лассные детские меро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е веч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ласс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емейные кл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бщешколь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ни открытых д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онц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ыставки учебных р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ворческие 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59:56Z</dcterms:created>
  <dc:creator>AK</dc:creator>
  <dc:description/>
  <dc:language>en-US</dc:language>
  <cp:lastModifiedBy>User</cp:lastModifiedBy>
  <dcterms:modified xsi:type="dcterms:W3CDTF">2019-01-16T12:46:17Z</dcterms:modified>
  <cp:revision>51</cp:revision>
  <dc:subject/>
  <dc:title>Слайд 1</dc:title>
</cp:coreProperties>
</file>